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DC8-FC6A-49D3-AFB4-BA06280A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7CA-AE9B-4B41-A569-82E32F69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6F8-A43A-445B-8CD2-EF07328B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CE9-2F6E-4189-B942-FB3B849A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9A9-1E16-4404-AEFA-D2E9123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C0D-0F30-4788-8A09-0F0B73F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D3F-16F0-4FF7-898E-4E928678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B2-6BAF-42D7-8CBE-FEDE8FEF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885-A5BF-4978-B184-F04C30CB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4C6-4A43-49B6-B1BD-1ECDF1A8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8B0-36D1-4D48-A3C6-64482EC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169-D70E-497A-BA7B-935A97B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316-F64A-439A-8436-E1AD2521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5909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6576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590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352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6576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523880"/>
            <a:ext cx="685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286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523880"/>
            <a:ext cx="685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35268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49528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54380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6280" y="2895480"/>
            <a:ext cx="45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7339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7339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37339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124080"/>
            <a:ext cx="1371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65760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65760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429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9960" y="43434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4572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6600" y="45720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6483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434340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411480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44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3341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24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5790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3840" y="6019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5240" y="624852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6248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5527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31560" y="44197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2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5680" y="205740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7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41200" y="289548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9051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895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743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9051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048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9051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7432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9051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200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124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6576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4120" y="137160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7636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200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66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9718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320" y="3505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vy Me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1295280"/>
            <a:ext cx="52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895480"/>
            <a:ext cx="762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4680" y="2438280"/>
            <a:ext cx="52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040" y="3200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04812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1240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24480" y="289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23623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24480" y="10663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066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3049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990720"/>
            <a:ext cx="761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51600" y="9907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r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6957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50880" y="16002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0044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590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en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2438280"/>
            <a:ext cx="762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58200" y="2361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55080" y="2057400"/>
            <a:ext cx="52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124080"/>
            <a:ext cx="14760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9051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743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048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3124080"/>
            <a:ext cx="14760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4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440" y="358128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522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29718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1148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400" y="266688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895480"/>
            <a:ext cx="11430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3809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4495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429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352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419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66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243828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7800" y="213372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809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560" y="182880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41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6800" y="495288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3581280"/>
            <a:ext cx="762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0010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79480" y="3048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51460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58092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9760" y="23623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3733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3733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038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1:48:32Z</dcterms:created>
  <dc:creator>Travis</dc:creator>
  <dc:description/>
  <dc:language>en-US</dc:language>
  <cp:lastModifiedBy>Travis</cp:lastModifiedBy>
  <dcterms:modified xsi:type="dcterms:W3CDTF">2010-04-05T00:00:24Z</dcterms:modified>
  <cp:revision>14</cp:revision>
  <dc:subject/>
  <dc:title>Slide 1</dc:title>
</cp:coreProperties>
</file>